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D47-0780-4432-8555-B0195AFB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5E8-5312-486E-9183-01127554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B4F-1C11-4427-8BBD-76FB4927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0C0-8ADC-4878-8B3F-F83AD5EA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E92-D2A4-4AB5-9677-F977EC67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604-FC42-4008-9497-4F4B9A72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FAC-C578-4A3E-8FE1-BF74A7A3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42B-9D4A-4DF2-84C3-453B9193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A9E-ED71-41DE-81DD-7B65B308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096-8944-49A3-AA50-C5E42A0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8D4-5EF1-4031-8654-CFF1ED86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A01-5458-4B18-A884-9A637B68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FE13-5DFB-4431-8D6A-0E3682E3C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PCiconSpeak Alternative Us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around using circles to minimiz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might build a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0040" y="1211400"/>
            <a:ext cx="8305920" cy="510516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200400"/>
            <a:ext cx="15238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27360" y="3921120"/>
            <a:ext cx="1532160" cy="1649160"/>
            <a:chOff x="5427360" y="3921120"/>
            <a:chExt cx="1532160" cy="1649160"/>
          </a:xfrm>
        </p:grpSpPr>
        <p:sp>
          <p:nvSpPr>
            <p:cNvPr id="587" name=""/>
            <p:cNvSpPr/>
            <p:nvPr/>
          </p:nvSpPr>
          <p:spPr>
            <a:xfrm rot="383400">
              <a:off x="5567760" y="4182840"/>
              <a:ext cx="114300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383400">
              <a:off x="6477840" y="45511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rot="383400">
              <a:off x="5804280" y="50889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383400">
              <a:off x="5855760" y="39448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383400">
              <a:off x="6293160" y="41472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383400">
              <a:off x="6275520" y="498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rot="383400">
              <a:off x="5450760" y="481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05480" y="2210400"/>
            <a:ext cx="1627200" cy="1685520"/>
            <a:chOff x="5505480" y="2210400"/>
            <a:chExt cx="1627200" cy="1685520"/>
          </a:xfrm>
        </p:grpSpPr>
        <p:sp>
          <p:nvSpPr>
            <p:cNvPr id="595" name=""/>
            <p:cNvSpPr/>
            <p:nvPr/>
          </p:nvSpPr>
          <p:spPr>
            <a:xfrm flipV="1" rot="20599800">
              <a:off x="5729040" y="253404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 rot="20599800">
              <a:off x="6619680" y="26751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 rot="20599800">
              <a:off x="5860800" y="226620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 rot="20599800">
              <a:off x="6115680" y="33829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 rot="20599800">
              <a:off x="6509880" y="31057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 rot="20599800">
              <a:off x="6342480" y="22809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 rot="20599800">
              <a:off x="5561280" y="25945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603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606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5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770440" y="28908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7150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629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636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640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641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647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648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652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658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19720" y="29718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029200" y="327672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388620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33920" y="38862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26708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297180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091120" y="3354480"/>
            <a:ext cx="420480" cy="335880"/>
            <a:chOff x="5091120" y="3354480"/>
            <a:chExt cx="420480" cy="335880"/>
          </a:xfrm>
        </p:grpSpPr>
        <p:sp>
          <p:nvSpPr>
            <p:cNvPr id="670" name=""/>
            <p:cNvSpPr/>
            <p:nvPr/>
          </p:nvSpPr>
          <p:spPr>
            <a:xfrm rot="4661400">
              <a:off x="5248800" y="3416040"/>
              <a:ext cx="168480" cy="157680"/>
            </a:xfrm>
            <a:custGeom>
              <a:avLst/>
              <a:gdLst>
                <a:gd name="textAreaLeft" fmla="*/ 48960 w 168480"/>
                <a:gd name="textAreaRight" fmla="*/ 119520 w 168480"/>
                <a:gd name="textAreaTop" fmla="*/ 45720 h 157680"/>
                <a:gd name="textAreaBottom" fmla="*/ 11196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25" y="21600"/>
                  </a:lnTo>
                  <a:lnTo>
                    <a:pt x="8175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34920" y="3382560"/>
              <a:ext cx="2772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79920" y="3354480"/>
              <a:ext cx="3168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5091120" y="3414600"/>
              <a:ext cx="186480" cy="275760"/>
              <a:chOff x="5091120" y="3414600"/>
              <a:chExt cx="186480" cy="275760"/>
            </a:xfrm>
          </p:grpSpPr>
          <p:sp>
            <p:nvSpPr>
              <p:cNvPr id="674" name=""/>
              <p:cNvSpPr/>
              <p:nvPr/>
            </p:nvSpPr>
            <p:spPr>
              <a:xfrm>
                <a:off x="5091120" y="3438720"/>
                <a:ext cx="186480" cy="2174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71760" y="3460680"/>
                <a:ext cx="45360" cy="3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25680" y="3414600"/>
                <a:ext cx="151920" cy="27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79" y="5625"/>
                    </a:moveTo>
                    <a:arcTo wR="10800" hR="10800" stAng="-1717935" swAng="1424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79" y="5625"/>
                    </a:moveTo>
                    <a:arcTo wR="10800" hR="10800" stAng="-1717935" swAng="1424434"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"/>
          <p:cNvGrpSpPr/>
          <p:nvPr/>
        </p:nvGrpSpPr>
        <p:grpSpPr>
          <a:xfrm>
            <a:off x="3733920" y="3276720"/>
            <a:ext cx="819000" cy="457200"/>
            <a:chOff x="3733920" y="3276720"/>
            <a:chExt cx="819000" cy="457200"/>
          </a:xfrm>
        </p:grpSpPr>
        <p:sp>
          <p:nvSpPr>
            <p:cNvPr id="678" name=""/>
            <p:cNvSpPr/>
            <p:nvPr/>
          </p:nvSpPr>
          <p:spPr>
            <a:xfrm>
              <a:off x="3733920" y="327672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41840" y="334476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645000" y="3878280"/>
            <a:ext cx="497880" cy="455400"/>
            <a:chOff x="3645000" y="3878280"/>
            <a:chExt cx="497880" cy="455400"/>
          </a:xfrm>
        </p:grpSpPr>
        <p:grpSp>
          <p:nvGrpSpPr>
            <p:cNvPr id="681" name=""/>
            <p:cNvGrpSpPr/>
            <p:nvPr/>
          </p:nvGrpSpPr>
          <p:grpSpPr>
            <a:xfrm>
              <a:off x="3786840" y="3878280"/>
              <a:ext cx="356040" cy="455400"/>
              <a:chOff x="3786840" y="3878280"/>
              <a:chExt cx="356040" cy="455400"/>
            </a:xfrm>
          </p:grpSpPr>
          <p:sp>
            <p:nvSpPr>
              <p:cNvPr id="682" name=""/>
              <p:cNvSpPr/>
              <p:nvPr/>
            </p:nvSpPr>
            <p:spPr>
              <a:xfrm>
                <a:off x="3858840" y="388584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77200" y="3962880"/>
                <a:ext cx="246600" cy="208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902040" y="3998880"/>
                <a:ext cx="19584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86840" y="4176360"/>
                <a:ext cx="348480" cy="157320"/>
              </a:xfrm>
              <a:prstGeom prst="parallelogram">
                <a:avLst>
                  <a:gd name="adj" fmla="val 553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54520" y="4200120"/>
                <a:ext cx="230760" cy="68400"/>
              </a:xfrm>
              <a:prstGeom prst="parallelogram">
                <a:avLst>
                  <a:gd name="adj" fmla="val 53854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32200" y="4269240"/>
                <a:ext cx="218520" cy="40680"/>
              </a:xfrm>
              <a:prstGeom prst="parallelogram">
                <a:avLst>
                  <a:gd name="adj" fmla="val 399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111560" y="387828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645000" y="3975480"/>
              <a:ext cx="178560" cy="2271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67440" y="3886200"/>
            <a:ext cx="455400" cy="469800"/>
            <a:chOff x="5167440" y="3886200"/>
            <a:chExt cx="455400" cy="469800"/>
          </a:xfrm>
        </p:grpSpPr>
        <p:grpSp>
          <p:nvGrpSpPr>
            <p:cNvPr id="691" name=""/>
            <p:cNvGrpSpPr/>
            <p:nvPr/>
          </p:nvGrpSpPr>
          <p:grpSpPr>
            <a:xfrm>
              <a:off x="5167440" y="3886200"/>
              <a:ext cx="325440" cy="469800"/>
              <a:chOff x="5167440" y="3886200"/>
              <a:chExt cx="325440" cy="469800"/>
            </a:xfrm>
          </p:grpSpPr>
          <p:sp>
            <p:nvSpPr>
              <p:cNvPr id="692" name=""/>
              <p:cNvSpPr/>
              <p:nvPr/>
            </p:nvSpPr>
            <p:spPr>
              <a:xfrm flipH="1">
                <a:off x="5398560" y="3894120"/>
                <a:ext cx="28800" cy="168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185080" y="3973320"/>
                <a:ext cx="225360" cy="214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208120" y="4010400"/>
                <a:ext cx="178920" cy="15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173920" y="4193640"/>
                <a:ext cx="318600" cy="162360"/>
              </a:xfrm>
              <a:prstGeom prst="parallelogram">
                <a:avLst>
                  <a:gd name="adj" fmla="val 4905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5220000" y="4218120"/>
                <a:ext cx="210960" cy="70560"/>
              </a:xfrm>
              <a:prstGeom prst="parallelogram">
                <a:avLst>
                  <a:gd name="adj" fmla="val 47726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251320" y="4289040"/>
                <a:ext cx="199800" cy="41760"/>
              </a:xfrm>
              <a:prstGeom prst="parallelogram">
                <a:avLst>
                  <a:gd name="adj" fmla="val 3557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167440" y="3886200"/>
                <a:ext cx="28800" cy="167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5459760" y="3986280"/>
              <a:ext cx="163080" cy="2343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498920" y="4280040"/>
            <a:ext cx="382680" cy="409320"/>
            <a:chOff x="4498920" y="4280040"/>
            <a:chExt cx="382680" cy="409320"/>
          </a:xfrm>
        </p:grpSpPr>
        <p:sp>
          <p:nvSpPr>
            <p:cNvPr id="701" name=""/>
            <p:cNvSpPr/>
            <p:nvPr/>
          </p:nvSpPr>
          <p:spPr>
            <a:xfrm>
              <a:off x="4498920" y="4509000"/>
              <a:ext cx="375840" cy="180360"/>
            </a:xfrm>
            <a:custGeom>
              <a:avLst/>
              <a:gdLst>
                <a:gd name="textAreaLeft" fmla="*/ 82440 w 375840"/>
                <a:gd name="textAreaRight" fmla="*/ 293400 w 375840"/>
                <a:gd name="textAreaTop" fmla="*/ 39600 h 180360"/>
                <a:gd name="textAreaBottom" fmla="*/ 140760 h 1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98920" y="4462920"/>
              <a:ext cx="382680" cy="979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65520" y="4280040"/>
              <a:ext cx="232560" cy="17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337480" y="3921480"/>
            <a:ext cx="1530360" cy="1648800"/>
            <a:chOff x="2337480" y="3921480"/>
            <a:chExt cx="1530360" cy="1648800"/>
          </a:xfrm>
        </p:grpSpPr>
        <p:grpSp>
          <p:nvGrpSpPr>
            <p:cNvPr id="706" name=""/>
            <p:cNvGrpSpPr/>
            <p:nvPr/>
          </p:nvGrpSpPr>
          <p:grpSpPr>
            <a:xfrm>
              <a:off x="2337480" y="3921480"/>
              <a:ext cx="1530360" cy="1648800"/>
              <a:chOff x="2337480" y="3921480"/>
              <a:chExt cx="1530360" cy="1648800"/>
            </a:xfrm>
          </p:grpSpPr>
          <p:sp>
            <p:nvSpPr>
              <p:cNvPr id="707" name=""/>
              <p:cNvSpPr/>
              <p:nvPr/>
            </p:nvSpPr>
            <p:spPr>
              <a:xfrm rot="21222000">
                <a:off x="2585880" y="418284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1222000">
                <a:off x="2360880" y="455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21222000">
                <a:off x="3033000" y="50893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1222000">
                <a:off x="2983680" y="39448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222000">
                <a:off x="2545920" y="41468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1222000">
                <a:off x="2562120" y="4988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21222000">
                <a:off x="3386880" y="482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2638440" y="5051520"/>
              <a:ext cx="310680" cy="460440"/>
              <a:chOff x="2638440" y="5051520"/>
              <a:chExt cx="310680" cy="460440"/>
            </a:xfrm>
          </p:grpSpPr>
          <p:sp>
            <p:nvSpPr>
              <p:cNvPr id="715" name=""/>
              <p:cNvSpPr/>
              <p:nvPr/>
            </p:nvSpPr>
            <p:spPr>
              <a:xfrm>
                <a:off x="2638440" y="5051520"/>
                <a:ext cx="310680" cy="46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98200" y="5105160"/>
                <a:ext cx="202680" cy="248040"/>
              </a:xfrm>
              <a:prstGeom prst="ellipse">
                <a:avLst/>
              </a:prstGeom>
              <a:solidFill>
                <a:srgbClr val="ffce4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02520" y="5071320"/>
                <a:ext cx="21168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119400" y="5156280"/>
              <a:ext cx="288720" cy="314280"/>
              <a:chOff x="3119400" y="5156280"/>
              <a:chExt cx="288720" cy="314280"/>
            </a:xfrm>
          </p:grpSpPr>
          <p:sp>
            <p:nvSpPr>
              <p:cNvPr id="719" name=""/>
              <p:cNvSpPr/>
              <p:nvPr/>
            </p:nvSpPr>
            <p:spPr>
              <a:xfrm>
                <a:off x="3123720" y="5156280"/>
                <a:ext cx="276840" cy="314280"/>
              </a:xfrm>
              <a:prstGeom prst="ellipse">
                <a:avLst/>
              </a:prstGeom>
              <a:solidFill>
                <a:srgbClr val="ffce4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119400" y="5157360"/>
                <a:ext cx="28872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183480" y="5312520"/>
                <a:ext cx="141840" cy="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"/>
          <p:cNvSpPr txBox="1"/>
          <p:nvPr/>
        </p:nvSpPr>
        <p:spPr>
          <a:xfrm>
            <a:off x="27432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4648320" y="5028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32240" y="578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248920" y="2125800"/>
            <a:ext cx="1579320" cy="1672200"/>
            <a:chOff x="2248920" y="2125800"/>
            <a:chExt cx="1579320" cy="1672200"/>
          </a:xfrm>
        </p:grpSpPr>
        <p:grpSp>
          <p:nvGrpSpPr>
            <p:cNvPr id="726" name=""/>
            <p:cNvGrpSpPr/>
            <p:nvPr/>
          </p:nvGrpSpPr>
          <p:grpSpPr>
            <a:xfrm>
              <a:off x="2248920" y="2125800"/>
              <a:ext cx="1579320" cy="1672200"/>
              <a:chOff x="2248920" y="2125800"/>
              <a:chExt cx="1579320" cy="1672200"/>
            </a:xfrm>
          </p:grpSpPr>
          <p:sp>
            <p:nvSpPr>
              <p:cNvPr id="727" name=""/>
              <p:cNvSpPr/>
              <p:nvPr/>
            </p:nvSpPr>
            <p:spPr>
              <a:xfrm flipV="1" rot="649200">
                <a:off x="2505960" y="245088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 rot="649200">
                <a:off x="2287440" y="264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 rot="649200">
                <a:off x="3000600" y="21643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 rot="649200">
                <a:off x="2860920" y="33015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 rot="649200">
                <a:off x="2440440" y="3065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 rot="649200">
                <a:off x="2522880" y="222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 rot="649200">
                <a:off x="3332160" y="24606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 txBox="1"/>
            <p:nvPr/>
          </p:nvSpPr>
          <p:spPr>
            <a:xfrm>
              <a:off x="2739960" y="285912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c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3430440" y="2598840"/>
              <a:ext cx="269640" cy="217080"/>
              <a:chOff x="3430440" y="2598840"/>
              <a:chExt cx="269640" cy="21708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3430440" y="2706480"/>
                <a:ext cx="144000" cy="109440"/>
                <a:chOff x="3430440" y="2706480"/>
                <a:chExt cx="144000" cy="1094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3448440" y="27129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480840" y="271080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517920" y="270648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430440" y="27327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462840" y="273024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499920" y="272592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536640" y="27309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432960" y="2598840"/>
                <a:ext cx="267120" cy="124920"/>
                <a:chOff x="3432960" y="2598840"/>
                <a:chExt cx="267120" cy="1249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432960" y="2648880"/>
                  <a:ext cx="130320" cy="74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3558240" y="2598840"/>
                  <a:ext cx="141840" cy="54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7" name=""/>
          <p:cNvGrpSpPr/>
          <p:nvPr/>
        </p:nvGrpSpPr>
        <p:grpSpPr>
          <a:xfrm>
            <a:off x="3831840" y="1336680"/>
            <a:ext cx="1647000" cy="1563120"/>
            <a:chOff x="3831840" y="1336680"/>
            <a:chExt cx="1647000" cy="1563120"/>
          </a:xfrm>
        </p:grpSpPr>
        <p:grpSp>
          <p:nvGrpSpPr>
            <p:cNvPr id="748" name=""/>
            <p:cNvGrpSpPr/>
            <p:nvPr/>
          </p:nvGrpSpPr>
          <p:grpSpPr>
            <a:xfrm>
              <a:off x="3831840" y="1336680"/>
              <a:ext cx="1647000" cy="1563120"/>
              <a:chOff x="3831840" y="1336680"/>
              <a:chExt cx="1647000" cy="1563120"/>
            </a:xfrm>
          </p:grpSpPr>
          <p:sp>
            <p:nvSpPr>
              <p:cNvPr id="749" name=""/>
              <p:cNvSpPr/>
              <p:nvPr/>
            </p:nvSpPr>
            <p:spPr>
              <a:xfrm flipV="1" rot="4197000">
                <a:off x="4028400" y="1645920"/>
                <a:ext cx="114336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 rot="4197000">
                <a:off x="4175640" y="14144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 rot="4197000">
                <a:off x="4957200" y="177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 rot="4197000">
                <a:off x="3909600" y="2241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 rot="4197000">
                <a:off x="3896280" y="175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 rot="4197000">
                <a:off x="4657320" y="1400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 rot="4197000">
                <a:off x="4873320" y="2214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"/>
            <p:cNvSpPr txBox="1"/>
            <p:nvPr/>
          </p:nvSpPr>
          <p:spPr>
            <a:xfrm>
              <a:off x="4191120" y="198108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4006800" y="2297160"/>
              <a:ext cx="239400" cy="333360"/>
              <a:chOff x="4006800" y="2297160"/>
              <a:chExt cx="239400" cy="333360"/>
            </a:xfrm>
          </p:grpSpPr>
          <p:sp>
            <p:nvSpPr>
              <p:cNvPr id="758" name=""/>
              <p:cNvSpPr/>
              <p:nvPr/>
            </p:nvSpPr>
            <p:spPr>
              <a:xfrm>
                <a:off x="4008960" y="2511000"/>
                <a:ext cx="232560" cy="11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06800" y="2364120"/>
                <a:ext cx="236520" cy="207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13640" y="2297160"/>
                <a:ext cx="232560" cy="11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4243320" y="2364120"/>
                <a:ext cx="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009320" y="2352240"/>
                <a:ext cx="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4058280" y="2443680"/>
                <a:ext cx="154800" cy="104400"/>
                <a:chOff x="4058280" y="2443680"/>
                <a:chExt cx="154800" cy="1044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4065840" y="245520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086720" y="247860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058280" y="24724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101480" y="24436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122000" y="24670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093560" y="2460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109760" y="2487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30280" y="25113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101840" y="250524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145040" y="24760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165920" y="24994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137120" y="24933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066920" y="24915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087800" y="2514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059000" y="250884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094640" y="249732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0" name=""/>
          <p:cNvSpPr/>
          <p:nvPr/>
        </p:nvSpPr>
        <p:spPr>
          <a:xfrm flipH="1" flipV="1">
            <a:off x="2730600" y="51526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594240" y="27064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4122720" y="24634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5322960" y="356832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56640" y="5786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156920" y="57913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022E-016 C -0.00625 -0.00856 -0.01979 -0.03356 -0.0375 -0.05093 C -0.05521 -0.06829 -0.07569 -0.11343 -0.10608 -0.10394 C -0.13646 -0.09444 -0.20052 -0.01181 -0.21944 0.00648 E">
                                      <p:cBhvr>
                                        <p:cTn id="665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8" dur="2000" fill="hold"/>
                                        <p:tgtEl>
                                          <p:spTgt spid="7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61111E-006 -7.77778E-006 C -0.02222 -0.00695 -0.04444 -0.01366 -0.05607 -0.03427 C -0.06771 -0.05487 -0.07569 -0.09792 -0.06944 -0.12362 C -0.06319 -0.14931 -0.03889 -0.17315 -0.01823 -0.18866 C 0.00243 -0.20417 0.03906 -0.2051 0.05486 -0.21644 C 0.07066 -0.22778 0.07292 -0.23959 0.07691 -0.25695 C 0.0809 -0.27431 0.07882 -0.3007 0.07934 -0.32038 C 0.07986 -0.34005 0.08038 -0.36644 0.08056 -0.3757 E">
                                      <p:cBhvr>
                                        <p:cTn id="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0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2000" fill="hold"/>
                                        <p:tgtEl>
                                          <p:spTgt spid="7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40741E-007 C 0.01112 0.00741 0.0224 0.01505 0.03664 0.00973 C 0.05087 0.0044 0.08265 -0.02014 0.08542 -0.0324 C 0.0882 -0.04467 0.05886 -0.05833 0.05365 -0.06342 E">
                                      <p:cBhvr>
                                        <p:cTn id="693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2000" fill="hold"/>
                                        <p:tgtEl>
                                          <p:spTgt spid="7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9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9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900"/>
                            </p:stCondLst>
                            <p:childTnLst>
                              <p:par>
                                <p:cTn id="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2801 C 0.01597 -0.01528 0.09479 0.02037 0.11736 0.04861 C 0.14011 0.07685 0.1283 0.12152 0.13108 0.14097 E">
                                      <p:cBhvr>
                                        <p:cTn id="709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900"/>
                            </p:stCondLst>
                            <p:childTnLst>
                              <p:par>
                                <p:cTn id="711" nodeType="after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Initial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200400"/>
            <a:ext cx="15238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37480" y="3921480"/>
            <a:ext cx="1530360" cy="1648800"/>
            <a:chOff x="2337480" y="3921480"/>
            <a:chExt cx="1530360" cy="1648800"/>
          </a:xfrm>
        </p:grpSpPr>
        <p:sp>
          <p:nvSpPr>
            <p:cNvPr id="47" name=""/>
            <p:cNvSpPr/>
            <p:nvPr/>
          </p:nvSpPr>
          <p:spPr>
            <a:xfrm rot="21222000">
              <a:off x="2585880" y="4182840"/>
              <a:ext cx="11426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1222000">
              <a:off x="2360880" y="455040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1222000">
              <a:off x="3033000" y="508932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222000">
              <a:off x="2983680" y="394488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1222000">
              <a:off x="2545920" y="414684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1222000">
              <a:off x="2562120" y="498816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1222000">
              <a:off x="3386880" y="482040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427360" y="3921120"/>
            <a:ext cx="1532160" cy="1649160"/>
            <a:chOff x="5427360" y="3921120"/>
            <a:chExt cx="1532160" cy="1649160"/>
          </a:xfrm>
        </p:grpSpPr>
        <p:sp>
          <p:nvSpPr>
            <p:cNvPr id="55" name=""/>
            <p:cNvSpPr/>
            <p:nvPr/>
          </p:nvSpPr>
          <p:spPr>
            <a:xfrm rot="383400">
              <a:off x="5567760" y="4182840"/>
              <a:ext cx="114300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383400">
              <a:off x="6477840" y="45511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383400">
              <a:off x="5804280" y="50889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383400">
              <a:off x="5855760" y="39448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383400">
              <a:off x="6293160" y="41472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383400">
              <a:off x="6275520" y="498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383400">
              <a:off x="5450760" y="481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48920" y="2125800"/>
            <a:ext cx="1579320" cy="1672200"/>
            <a:chOff x="2248920" y="2125800"/>
            <a:chExt cx="1579320" cy="1672200"/>
          </a:xfrm>
        </p:grpSpPr>
        <p:sp>
          <p:nvSpPr>
            <p:cNvPr id="63" name=""/>
            <p:cNvSpPr/>
            <p:nvPr/>
          </p:nvSpPr>
          <p:spPr>
            <a:xfrm flipV="1" rot="649200">
              <a:off x="2505960" y="245088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649200">
              <a:off x="2287440" y="264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649200">
              <a:off x="3000600" y="21643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649200">
              <a:off x="2860920" y="33015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649200">
              <a:off x="2440440" y="30657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649200">
              <a:off x="2522880" y="22280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49200">
              <a:off x="3332160" y="24606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505480" y="2210400"/>
            <a:ext cx="1627200" cy="1685520"/>
            <a:chOff x="5505480" y="2210400"/>
            <a:chExt cx="1627200" cy="1685520"/>
          </a:xfrm>
        </p:grpSpPr>
        <p:sp>
          <p:nvSpPr>
            <p:cNvPr id="71" name=""/>
            <p:cNvSpPr/>
            <p:nvPr/>
          </p:nvSpPr>
          <p:spPr>
            <a:xfrm flipV="1" rot="20599800">
              <a:off x="5729040" y="253404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 rot="20599800">
              <a:off x="6619680" y="26751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 rot="20599800">
              <a:off x="5860800" y="226620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 rot="20599800">
              <a:off x="6115680" y="33829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 rot="20599800">
              <a:off x="6509880" y="31057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 rot="20599800">
              <a:off x="6342480" y="22809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 rot="20599800">
              <a:off x="5561280" y="25945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31840" y="1336680"/>
            <a:ext cx="1647000" cy="1563120"/>
            <a:chOff x="3831840" y="1336680"/>
            <a:chExt cx="1647000" cy="1563120"/>
          </a:xfrm>
        </p:grpSpPr>
        <p:sp>
          <p:nvSpPr>
            <p:cNvPr id="79" name=""/>
            <p:cNvSpPr/>
            <p:nvPr/>
          </p:nvSpPr>
          <p:spPr>
            <a:xfrm flipV="1" rot="4197000">
              <a:off x="4028400" y="1645920"/>
              <a:ext cx="114336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4197000">
              <a:off x="4175640" y="14144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4197000">
              <a:off x="4957200" y="17780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4197000">
              <a:off x="3909600" y="22413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4197000">
              <a:off x="3896280" y="175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 rot="4197000">
              <a:off x="4657320" y="14007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 rot="4197000">
              <a:off x="4873320" y="22143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87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88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90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48320" y="5028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432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66880" y="281952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91120" y="1981080"/>
            <a:ext cx="866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867280" y="289548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50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118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125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129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130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136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137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141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147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419720" y="29718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27672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88620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8862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426708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97180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40240" y="3679920"/>
            <a:ext cx="420480" cy="335880"/>
            <a:chOff x="4440240" y="3679920"/>
            <a:chExt cx="420480" cy="335880"/>
          </a:xfrm>
        </p:grpSpPr>
        <p:sp>
          <p:nvSpPr>
            <p:cNvPr id="159" name=""/>
            <p:cNvSpPr/>
            <p:nvPr/>
          </p:nvSpPr>
          <p:spPr>
            <a:xfrm rot="4661400">
              <a:off x="4597920" y="3741480"/>
              <a:ext cx="168480" cy="157680"/>
            </a:xfrm>
            <a:custGeom>
              <a:avLst/>
              <a:gdLst>
                <a:gd name="textAreaLeft" fmla="*/ 48960 w 168480"/>
                <a:gd name="textAreaRight" fmla="*/ 119520 w 168480"/>
                <a:gd name="textAreaTop" fmla="*/ 45720 h 157680"/>
                <a:gd name="textAreaBottom" fmla="*/ 11196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25" y="21600"/>
                  </a:lnTo>
                  <a:lnTo>
                    <a:pt x="8175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4040" y="3708000"/>
              <a:ext cx="2772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9040" y="3679920"/>
              <a:ext cx="3168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440240" y="3740040"/>
              <a:ext cx="186480" cy="275760"/>
              <a:chOff x="4440240" y="3740040"/>
              <a:chExt cx="186480" cy="275760"/>
            </a:xfrm>
          </p:grpSpPr>
          <p:sp>
            <p:nvSpPr>
              <p:cNvPr id="163" name=""/>
              <p:cNvSpPr/>
              <p:nvPr/>
            </p:nvSpPr>
            <p:spPr>
              <a:xfrm>
                <a:off x="4440240" y="3764160"/>
                <a:ext cx="186480" cy="2174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0880" y="3786120"/>
                <a:ext cx="45360" cy="3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74800" y="3740040"/>
                <a:ext cx="151920" cy="27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79" y="5625"/>
                    </a:moveTo>
                    <a:arcTo wR="10800" hR="10800" stAng="-1717935" swAng="1424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79" y="5625"/>
                    </a:moveTo>
                    <a:arcTo wR="10800" hR="10800" stAng="-1717935" swAng="1424434"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733920" y="3276720"/>
            <a:ext cx="819000" cy="457200"/>
            <a:chOff x="3733920" y="3276720"/>
            <a:chExt cx="819000" cy="457200"/>
          </a:xfrm>
        </p:grpSpPr>
        <p:sp>
          <p:nvSpPr>
            <p:cNvPr id="167" name=""/>
            <p:cNvSpPr/>
            <p:nvPr/>
          </p:nvSpPr>
          <p:spPr>
            <a:xfrm>
              <a:off x="3733920" y="327672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41840" y="334476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645000" y="3878280"/>
            <a:ext cx="497880" cy="455400"/>
            <a:chOff x="3645000" y="3878280"/>
            <a:chExt cx="497880" cy="455400"/>
          </a:xfrm>
        </p:grpSpPr>
        <p:grpSp>
          <p:nvGrpSpPr>
            <p:cNvPr id="170" name=""/>
            <p:cNvGrpSpPr/>
            <p:nvPr/>
          </p:nvGrpSpPr>
          <p:grpSpPr>
            <a:xfrm>
              <a:off x="3786840" y="3878280"/>
              <a:ext cx="356040" cy="455400"/>
              <a:chOff x="3786840" y="3878280"/>
              <a:chExt cx="356040" cy="455400"/>
            </a:xfrm>
          </p:grpSpPr>
          <p:sp>
            <p:nvSpPr>
              <p:cNvPr id="171" name=""/>
              <p:cNvSpPr/>
              <p:nvPr/>
            </p:nvSpPr>
            <p:spPr>
              <a:xfrm>
                <a:off x="3858840" y="388584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77200" y="3962880"/>
                <a:ext cx="246600" cy="208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02040" y="3998880"/>
                <a:ext cx="19584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86840" y="4176360"/>
                <a:ext cx="348480" cy="157320"/>
              </a:xfrm>
              <a:prstGeom prst="parallelogram">
                <a:avLst>
                  <a:gd name="adj" fmla="val 553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54520" y="4200120"/>
                <a:ext cx="230760" cy="68400"/>
              </a:xfrm>
              <a:prstGeom prst="parallelogram">
                <a:avLst>
                  <a:gd name="adj" fmla="val 53854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32200" y="4269240"/>
                <a:ext cx="218520" cy="40680"/>
              </a:xfrm>
              <a:prstGeom prst="parallelogram">
                <a:avLst>
                  <a:gd name="adj" fmla="val 399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11560" y="387828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645000" y="3975480"/>
              <a:ext cx="178560" cy="2271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67440" y="3886200"/>
            <a:ext cx="455400" cy="469800"/>
            <a:chOff x="5167440" y="3886200"/>
            <a:chExt cx="455400" cy="469800"/>
          </a:xfrm>
        </p:grpSpPr>
        <p:grpSp>
          <p:nvGrpSpPr>
            <p:cNvPr id="180" name=""/>
            <p:cNvGrpSpPr/>
            <p:nvPr/>
          </p:nvGrpSpPr>
          <p:grpSpPr>
            <a:xfrm>
              <a:off x="5167440" y="3886200"/>
              <a:ext cx="325440" cy="469800"/>
              <a:chOff x="5167440" y="3886200"/>
              <a:chExt cx="325440" cy="46980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5398560" y="3894120"/>
                <a:ext cx="28800" cy="168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185080" y="3973320"/>
                <a:ext cx="225360" cy="214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08120" y="4010400"/>
                <a:ext cx="178920" cy="15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173920" y="4193640"/>
                <a:ext cx="318600" cy="162360"/>
              </a:xfrm>
              <a:prstGeom prst="parallelogram">
                <a:avLst>
                  <a:gd name="adj" fmla="val 4905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220000" y="4218120"/>
                <a:ext cx="210960" cy="70560"/>
              </a:xfrm>
              <a:prstGeom prst="parallelogram">
                <a:avLst>
                  <a:gd name="adj" fmla="val 47726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251320" y="4289040"/>
                <a:ext cx="199800" cy="41760"/>
              </a:xfrm>
              <a:prstGeom prst="parallelogram">
                <a:avLst>
                  <a:gd name="adj" fmla="val 3557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5167440" y="3886200"/>
                <a:ext cx="28800" cy="167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459760" y="3986280"/>
              <a:ext cx="163080" cy="2343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498920" y="4280040"/>
            <a:ext cx="382680" cy="409320"/>
            <a:chOff x="4498920" y="4280040"/>
            <a:chExt cx="382680" cy="409320"/>
          </a:xfrm>
        </p:grpSpPr>
        <p:sp>
          <p:nvSpPr>
            <p:cNvPr id="190" name=""/>
            <p:cNvSpPr/>
            <p:nvPr/>
          </p:nvSpPr>
          <p:spPr>
            <a:xfrm>
              <a:off x="4498920" y="4509000"/>
              <a:ext cx="375840" cy="180360"/>
            </a:xfrm>
            <a:custGeom>
              <a:avLst/>
              <a:gdLst>
                <a:gd name="textAreaLeft" fmla="*/ 82440 w 375840"/>
                <a:gd name="textAreaRight" fmla="*/ 293400 w 375840"/>
                <a:gd name="textAreaTop" fmla="*/ 39600 h 180360"/>
                <a:gd name="textAreaBottom" fmla="*/ 140760 h 1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8920" y="4462920"/>
              <a:ext cx="382680" cy="979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65520" y="4280040"/>
              <a:ext cx="232560" cy="17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062680" y="3384720"/>
            <a:ext cx="5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Initial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197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167360" y="4812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48920" y="1336680"/>
            <a:ext cx="4883760" cy="4233600"/>
            <a:chOff x="2248920" y="1336680"/>
            <a:chExt cx="4883760" cy="4233600"/>
          </a:xfrm>
        </p:grpSpPr>
        <p:grpSp>
          <p:nvGrpSpPr>
            <p:cNvPr id="223" name=""/>
            <p:cNvGrpSpPr/>
            <p:nvPr/>
          </p:nvGrpSpPr>
          <p:grpSpPr>
            <a:xfrm>
              <a:off x="2337480" y="3921480"/>
              <a:ext cx="1530360" cy="1648800"/>
              <a:chOff x="2337480" y="3921480"/>
              <a:chExt cx="1530360" cy="1648800"/>
            </a:xfrm>
          </p:grpSpPr>
          <p:sp>
            <p:nvSpPr>
              <p:cNvPr id="224" name=""/>
              <p:cNvSpPr/>
              <p:nvPr/>
            </p:nvSpPr>
            <p:spPr>
              <a:xfrm rot="21222000">
                <a:off x="2585880" y="418284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222000">
                <a:off x="2360880" y="455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1222000">
                <a:off x="3033000" y="50893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1222000">
                <a:off x="2983680" y="39448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1222000">
                <a:off x="2545920" y="41468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1222000">
                <a:off x="2562120" y="4988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1222000">
                <a:off x="3386880" y="482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427360" y="3921120"/>
              <a:ext cx="1532160" cy="1649160"/>
              <a:chOff x="5427360" y="3921120"/>
              <a:chExt cx="1532160" cy="1649160"/>
            </a:xfrm>
          </p:grpSpPr>
          <p:sp>
            <p:nvSpPr>
              <p:cNvPr id="232" name=""/>
              <p:cNvSpPr/>
              <p:nvPr/>
            </p:nvSpPr>
            <p:spPr>
              <a:xfrm rot="383400">
                <a:off x="5567760" y="4182840"/>
                <a:ext cx="1143000" cy="1066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383400">
                <a:off x="6477840" y="45511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rot="383400">
                <a:off x="5804280" y="50889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rot="383400">
                <a:off x="5855760" y="39448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383400">
                <a:off x="6293160" y="41472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383400">
                <a:off x="6275520" y="498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383400">
                <a:off x="5450760" y="481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248920" y="2125800"/>
              <a:ext cx="1579320" cy="1672200"/>
              <a:chOff x="2248920" y="2125800"/>
              <a:chExt cx="1579320" cy="1672200"/>
            </a:xfrm>
          </p:grpSpPr>
          <p:sp>
            <p:nvSpPr>
              <p:cNvPr id="240" name=""/>
              <p:cNvSpPr/>
              <p:nvPr/>
            </p:nvSpPr>
            <p:spPr>
              <a:xfrm flipV="1" rot="649200">
                <a:off x="2505960" y="245088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 rot="649200">
                <a:off x="2287440" y="264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649200">
                <a:off x="3000600" y="21643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 rot="649200">
                <a:off x="2860920" y="33015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649200">
                <a:off x="2440440" y="3065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 rot="649200">
                <a:off x="2522880" y="222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 rot="649200">
                <a:off x="3332160" y="24606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505480" y="2210400"/>
              <a:ext cx="1627200" cy="1685520"/>
              <a:chOff x="5505480" y="2210400"/>
              <a:chExt cx="1627200" cy="1685520"/>
            </a:xfrm>
          </p:grpSpPr>
          <p:sp>
            <p:nvSpPr>
              <p:cNvPr id="248" name=""/>
              <p:cNvSpPr/>
              <p:nvPr/>
            </p:nvSpPr>
            <p:spPr>
              <a:xfrm flipV="1" rot="20599800">
                <a:off x="5729040" y="253404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 rot="20599800">
                <a:off x="6619680" y="267516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 rot="20599800">
                <a:off x="5860800" y="226620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 rot="20599800">
                <a:off x="6115680" y="33829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 rot="20599800">
                <a:off x="6509880" y="31057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 rot="20599800">
                <a:off x="6342480" y="228096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 rot="20599800">
                <a:off x="5561280" y="25945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831840" y="1336680"/>
              <a:ext cx="1647000" cy="1563120"/>
              <a:chOff x="3831840" y="1336680"/>
              <a:chExt cx="1647000" cy="1563120"/>
            </a:xfrm>
          </p:grpSpPr>
          <p:sp>
            <p:nvSpPr>
              <p:cNvPr id="256" name=""/>
              <p:cNvSpPr/>
              <p:nvPr/>
            </p:nvSpPr>
            <p:spPr>
              <a:xfrm flipV="1" rot="4197000">
                <a:off x="4028400" y="1645920"/>
                <a:ext cx="114336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 rot="4197000">
                <a:off x="4175640" y="14144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 rot="4197000">
                <a:off x="4957200" y="177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 rot="4197000">
                <a:off x="3909600" y="2241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 rot="4197000">
                <a:off x="3896280" y="175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4197000">
                <a:off x="4657320" y="1400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 rot="4197000">
                <a:off x="4873320" y="2214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 txBox="1"/>
            <p:nvPr/>
          </p:nvSpPr>
          <p:spPr>
            <a:xfrm>
              <a:off x="2743200" y="457200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666880" y="281952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la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191120" y="198108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5867280" y="289548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c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5715000" y="457200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scrib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269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276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280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281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287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292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298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Cloud"/>
          <p:cNvSpPr/>
          <p:nvPr/>
        </p:nvSpPr>
        <p:spPr>
          <a:xfrm>
            <a:off x="1590840" y="1087560"/>
            <a:ext cx="2336760" cy="5475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rent subject of conver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loud"/>
          <p:cNvSpPr/>
          <p:nvPr/>
        </p:nvSpPr>
        <p:spPr>
          <a:xfrm>
            <a:off x="608040" y="4352760"/>
            <a:ext cx="1325520" cy="8892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rent mouse position on sc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loud"/>
          <p:cNvSpPr/>
          <p:nvPr/>
        </p:nvSpPr>
        <p:spPr>
          <a:xfrm>
            <a:off x="6415200" y="1344600"/>
            <a:ext cx="1371600" cy="7635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way to quit, saving all set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loud"/>
          <p:cNvSpPr/>
          <p:nvPr/>
        </p:nvSpPr>
        <p:spPr>
          <a:xfrm>
            <a:off x="6811920" y="5689440"/>
            <a:ext cx="2168640" cy="560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sentence to be spoken (as its bui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loud"/>
          <p:cNvSpPr/>
          <p:nvPr/>
        </p:nvSpPr>
        <p:spPr>
          <a:xfrm>
            <a:off x="7723080" y="3333600"/>
            <a:ext cx="1265400" cy="1155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ontrols for volume, pace, and voice for spe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loud"/>
          <p:cNvSpPr/>
          <p:nvPr/>
        </p:nvSpPr>
        <p:spPr>
          <a:xfrm>
            <a:off x="4172040" y="4954680"/>
            <a:ext cx="939600" cy="630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645000" y="2971800"/>
            <a:ext cx="1977840" cy="1752480"/>
            <a:chOff x="3645000" y="2971800"/>
            <a:chExt cx="1977840" cy="1752480"/>
          </a:xfrm>
        </p:grpSpPr>
        <p:sp>
          <p:nvSpPr>
            <p:cNvPr id="310" name=""/>
            <p:cNvSpPr/>
            <p:nvPr/>
          </p:nvSpPr>
          <p:spPr>
            <a:xfrm>
              <a:off x="3886200" y="3200400"/>
              <a:ext cx="152388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297180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3276720"/>
              <a:ext cx="53352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29200" y="3886200"/>
              <a:ext cx="53352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33920" y="388620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9720" y="426708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5680" y="2971800"/>
              <a:ext cx="3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562640" y="3643200"/>
              <a:ext cx="420120" cy="335880"/>
              <a:chOff x="4562640" y="3643200"/>
              <a:chExt cx="420120" cy="335880"/>
            </a:xfrm>
          </p:grpSpPr>
          <p:sp>
            <p:nvSpPr>
              <p:cNvPr id="318" name=""/>
              <p:cNvSpPr/>
              <p:nvPr/>
            </p:nvSpPr>
            <p:spPr>
              <a:xfrm rot="4661400">
                <a:off x="4719960" y="3704760"/>
                <a:ext cx="168480" cy="157680"/>
              </a:xfrm>
              <a:custGeom>
                <a:avLst/>
                <a:gdLst>
                  <a:gd name="textAreaLeft" fmla="*/ 48960 w 168480"/>
                  <a:gd name="textAreaRight" fmla="*/ 119520 w 168480"/>
                  <a:gd name="textAreaTop" fmla="*/ 45720 h 157680"/>
                  <a:gd name="textAreaBottom" fmla="*/ 11196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25" y="21600"/>
                    </a:lnTo>
                    <a:lnTo>
                      <a:pt x="8175" y="21600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06080" y="3671280"/>
                <a:ext cx="2772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51080" y="3643200"/>
                <a:ext cx="31680" cy="2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4562640" y="3703320"/>
                <a:ext cx="186480" cy="275760"/>
                <a:chOff x="4562640" y="3703320"/>
                <a:chExt cx="186480" cy="2757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562640" y="3727440"/>
                  <a:ext cx="186120" cy="2174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643280" y="3749400"/>
                  <a:ext cx="45360" cy="39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97200" y="3703320"/>
                  <a:ext cx="151920" cy="27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9" y="5625"/>
                      </a:moveTo>
                      <a:arcTo wR="10800" hR="10800" stAng="-1717935" swAng="1424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9" y="5625"/>
                      </a:moveTo>
                      <a:arcTo wR="10800" hR="10800" stAng="-1717935" swAng="1424434"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3733920" y="3276720"/>
              <a:ext cx="819000" cy="457200"/>
              <a:chOff x="3733920" y="3276720"/>
              <a:chExt cx="819000" cy="457200"/>
            </a:xfrm>
          </p:grpSpPr>
          <p:sp>
            <p:nvSpPr>
              <p:cNvPr id="326" name=""/>
              <p:cNvSpPr/>
              <p:nvPr/>
            </p:nvSpPr>
            <p:spPr>
              <a:xfrm>
                <a:off x="3733920" y="3276720"/>
                <a:ext cx="533160" cy="457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41840" y="3344760"/>
                <a:ext cx="81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645000" y="3878280"/>
              <a:ext cx="497880" cy="455400"/>
              <a:chOff x="3645000" y="3878280"/>
              <a:chExt cx="497880" cy="4554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3786840" y="3878280"/>
                <a:ext cx="356040" cy="455400"/>
                <a:chOff x="3786840" y="3878280"/>
                <a:chExt cx="356040" cy="455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858840" y="3885840"/>
                  <a:ext cx="31320" cy="163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877200" y="3962880"/>
                  <a:ext cx="246600" cy="20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02040" y="3998880"/>
                  <a:ext cx="195840" cy="14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86840" y="4176360"/>
                  <a:ext cx="348480" cy="157320"/>
                </a:xfrm>
                <a:prstGeom prst="parallelogram">
                  <a:avLst>
                    <a:gd name="adj" fmla="val 553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854520" y="4200120"/>
                  <a:ext cx="230760" cy="68400"/>
                </a:xfrm>
                <a:prstGeom prst="parallelogram">
                  <a:avLst>
                    <a:gd name="adj" fmla="val 53854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32200" y="4269240"/>
                  <a:ext cx="218520" cy="40680"/>
                </a:xfrm>
                <a:prstGeom prst="parallelogram">
                  <a:avLst>
                    <a:gd name="adj" fmla="val 39939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11560" y="3878280"/>
                  <a:ext cx="31320" cy="163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3645000" y="3975480"/>
                <a:ext cx="178560" cy="22716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167440" y="3886200"/>
              <a:ext cx="455400" cy="469800"/>
              <a:chOff x="5167440" y="3886200"/>
              <a:chExt cx="455400" cy="4698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5167440" y="3886200"/>
                <a:ext cx="325440" cy="469800"/>
                <a:chOff x="5167440" y="3886200"/>
                <a:chExt cx="325440" cy="469800"/>
              </a:xfrm>
            </p:grpSpPr>
            <p:sp>
              <p:nvSpPr>
                <p:cNvPr id="340" name=""/>
                <p:cNvSpPr/>
                <p:nvPr/>
              </p:nvSpPr>
              <p:spPr>
                <a:xfrm flipH="1">
                  <a:off x="5398560" y="3894120"/>
                  <a:ext cx="28800" cy="1681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5185080" y="3973320"/>
                  <a:ext cx="225360" cy="21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5208120" y="4010400"/>
                  <a:ext cx="178920" cy="15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173920" y="4193640"/>
                  <a:ext cx="318600" cy="162360"/>
                </a:xfrm>
                <a:prstGeom prst="parallelogram">
                  <a:avLst>
                    <a:gd name="adj" fmla="val 4905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5220000" y="4218120"/>
                  <a:ext cx="210960" cy="70560"/>
                </a:xfrm>
                <a:prstGeom prst="parallelogram">
                  <a:avLst>
                    <a:gd name="adj" fmla="val 47726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5251320" y="4289040"/>
                  <a:ext cx="199800" cy="41760"/>
                </a:xfrm>
                <a:prstGeom prst="parallelogram">
                  <a:avLst>
                    <a:gd name="adj" fmla="val 3557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5167440" y="3886200"/>
                  <a:ext cx="28800" cy="167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5459760" y="3986280"/>
                <a:ext cx="163080" cy="23436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498920" y="4280040"/>
              <a:ext cx="382680" cy="409320"/>
              <a:chOff x="4498920" y="4280040"/>
              <a:chExt cx="382680" cy="409320"/>
            </a:xfrm>
          </p:grpSpPr>
          <p:sp>
            <p:nvSpPr>
              <p:cNvPr id="349" name=""/>
              <p:cNvSpPr/>
              <p:nvPr/>
            </p:nvSpPr>
            <p:spPr>
              <a:xfrm>
                <a:off x="4498920" y="4509000"/>
                <a:ext cx="375840" cy="180360"/>
              </a:xfrm>
              <a:custGeom>
                <a:avLst/>
                <a:gdLst>
                  <a:gd name="textAreaLeft" fmla="*/ 82440 w 375840"/>
                  <a:gd name="textAreaRight" fmla="*/ 293400 w 375840"/>
                  <a:gd name="textAreaTop" fmla="*/ 39600 h 180360"/>
                  <a:gd name="textAreaBottom" fmla="*/ 140760 h 18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98920" y="4462920"/>
                <a:ext cx="382680" cy="9792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65520" y="4280040"/>
                <a:ext cx="232560" cy="178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5014800" y="338616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74760" y="2338560"/>
            <a:ext cx="2619360" cy="941040"/>
            <a:chOff x="374760" y="2338560"/>
            <a:chExt cx="2619360" cy="941040"/>
          </a:xfrm>
        </p:grpSpPr>
        <p:sp>
          <p:nvSpPr>
            <p:cNvPr id="354" name=""/>
            <p:cNvSpPr/>
            <p:nvPr/>
          </p:nvSpPr>
          <p:spPr>
            <a:xfrm>
              <a:off x="755640" y="2739960"/>
              <a:ext cx="22384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Cloud"/>
            <p:cNvSpPr/>
            <p:nvPr/>
          </p:nvSpPr>
          <p:spPr>
            <a:xfrm>
              <a:off x="374760" y="2338560"/>
              <a:ext cx="1736640" cy="9410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Rotary selectors (rotoselectors) for building sente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7920" y="3340080"/>
            <a:ext cx="3510000" cy="930240"/>
            <a:chOff x="907920" y="3340080"/>
            <a:chExt cx="3510000" cy="930240"/>
          </a:xfrm>
        </p:grpSpPr>
        <p:sp>
          <p:nvSpPr>
            <p:cNvPr id="357" name=""/>
            <p:cNvSpPr/>
            <p:nvPr/>
          </p:nvSpPr>
          <p:spPr>
            <a:xfrm>
              <a:off x="2179800" y="3827520"/>
              <a:ext cx="2238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Cloud"/>
            <p:cNvSpPr/>
            <p:nvPr/>
          </p:nvSpPr>
          <p:spPr>
            <a:xfrm>
              <a:off x="907920" y="3340080"/>
              <a:ext cx="1592280" cy="9302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ontrols for talking, saving, recalling sente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37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rols for volume, pace, and voice for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08200" y="1906560"/>
            <a:ext cx="14148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5960" y="2532240"/>
            <a:ext cx="706320" cy="12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57800" y="1906560"/>
            <a:ext cx="14112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73400" y="3032280"/>
            <a:ext cx="708120" cy="12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07040" y="1906560"/>
            <a:ext cx="14112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23000" y="3657600"/>
            <a:ext cx="707760" cy="123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164840" y="4657680"/>
            <a:ext cx="531720" cy="650160"/>
            <a:chOff x="4164840" y="4657680"/>
            <a:chExt cx="531720" cy="650160"/>
          </a:xfrm>
        </p:grpSpPr>
        <p:sp>
          <p:nvSpPr>
            <p:cNvPr id="367" name=""/>
            <p:cNvSpPr/>
            <p:nvPr/>
          </p:nvSpPr>
          <p:spPr>
            <a:xfrm>
              <a:off x="4385520" y="4657680"/>
              <a:ext cx="84960" cy="233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466400">
              <a:off x="4215960" y="504720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9618200">
              <a:off x="4470120" y="504684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9514400">
              <a:off x="4216320" y="473508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550000">
              <a:off x="4470480" y="473472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16320" y="4813200"/>
              <a:ext cx="423720" cy="389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216320" y="1157400"/>
            <a:ext cx="423720" cy="624960"/>
            <a:chOff x="4216320" y="1157400"/>
            <a:chExt cx="423720" cy="624960"/>
          </a:xfrm>
        </p:grpSpPr>
        <p:sp>
          <p:nvSpPr>
            <p:cNvPr id="374" name=""/>
            <p:cNvSpPr/>
            <p:nvPr/>
          </p:nvSpPr>
          <p:spPr>
            <a:xfrm>
              <a:off x="4300920" y="1157400"/>
              <a:ext cx="84600" cy="31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70480" y="1157400"/>
              <a:ext cx="84600" cy="31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16320" y="1391760"/>
              <a:ext cx="423720" cy="390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78040" y="1045080"/>
            <a:ext cx="2153880" cy="961200"/>
            <a:chOff x="1778040" y="1045080"/>
            <a:chExt cx="2153880" cy="961200"/>
          </a:xfrm>
        </p:grpSpPr>
        <p:grpSp>
          <p:nvGrpSpPr>
            <p:cNvPr id="378" name=""/>
            <p:cNvGrpSpPr/>
            <p:nvPr/>
          </p:nvGrpSpPr>
          <p:grpSpPr>
            <a:xfrm>
              <a:off x="3050640" y="1282680"/>
              <a:ext cx="293760" cy="499680"/>
              <a:chOff x="3050640" y="1282680"/>
              <a:chExt cx="293760" cy="499680"/>
            </a:xfrm>
          </p:grpSpPr>
          <p:sp>
            <p:nvSpPr>
              <p:cNvPr id="379" name=""/>
              <p:cNvSpPr/>
              <p:nvPr/>
            </p:nvSpPr>
            <p:spPr>
              <a:xfrm rot="5400000">
                <a:off x="2980440" y="1478160"/>
                <a:ext cx="250560" cy="110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400000">
                <a:off x="3002760" y="1440720"/>
                <a:ext cx="499680" cy="183600"/>
              </a:xfrm>
              <a:custGeom>
                <a:avLst/>
                <a:gdLst>
                  <a:gd name="textAreaLeft" fmla="*/ 109800 w 499680"/>
                  <a:gd name="textAreaRight" fmla="*/ 389880 w 499680"/>
                  <a:gd name="textAreaTop" fmla="*/ 40320 h 183600"/>
                  <a:gd name="textAreaBottom" fmla="*/ 143280 h 18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5400000">
              <a:off x="217836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237420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257004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093040" y="4543920"/>
            <a:ext cx="1697400" cy="961200"/>
            <a:chOff x="2093040" y="4543920"/>
            <a:chExt cx="1697400" cy="961200"/>
          </a:xfrm>
        </p:grpSpPr>
        <p:grpSp>
          <p:nvGrpSpPr>
            <p:cNvPr id="385" name=""/>
            <p:cNvGrpSpPr/>
            <p:nvPr/>
          </p:nvGrpSpPr>
          <p:grpSpPr>
            <a:xfrm>
              <a:off x="3319200" y="4781520"/>
              <a:ext cx="282960" cy="499680"/>
              <a:chOff x="3319200" y="4781520"/>
              <a:chExt cx="282960" cy="499680"/>
            </a:xfrm>
          </p:grpSpPr>
          <p:sp>
            <p:nvSpPr>
              <p:cNvPr id="386" name=""/>
              <p:cNvSpPr/>
              <p:nvPr/>
            </p:nvSpPr>
            <p:spPr>
              <a:xfrm rot="5400000">
                <a:off x="3246840" y="4978800"/>
                <a:ext cx="250560" cy="106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5400000">
                <a:off x="3263760" y="4942800"/>
                <a:ext cx="499680" cy="176760"/>
              </a:xfrm>
              <a:custGeom>
                <a:avLst/>
                <a:gdLst>
                  <a:gd name="textAreaLeft" fmla="*/ 109800 w 499680"/>
                  <a:gd name="textAreaRight" fmla="*/ 389880 w 499680"/>
                  <a:gd name="textAreaTop" fmla="*/ 38880 h 176760"/>
                  <a:gd name="textAreaBottom" fmla="*/ 137880 h 17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rot="5400000">
              <a:off x="2460960" y="4175640"/>
              <a:ext cx="961200" cy="169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923000" y="4657680"/>
            <a:ext cx="707760" cy="749520"/>
            <a:chOff x="4923000" y="4657680"/>
            <a:chExt cx="707760" cy="749520"/>
          </a:xfrm>
        </p:grpSpPr>
        <p:sp>
          <p:nvSpPr>
            <p:cNvPr id="390" name=""/>
            <p:cNvSpPr/>
            <p:nvPr/>
          </p:nvSpPr>
          <p:spPr>
            <a:xfrm>
              <a:off x="4923000" y="4657680"/>
              <a:ext cx="707760" cy="749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40800" y="4871880"/>
              <a:ext cx="108720" cy="5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58240" y="4871880"/>
              <a:ext cx="108720" cy="5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03880" y="4978800"/>
              <a:ext cx="163080" cy="1605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029560" y="5031720"/>
              <a:ext cx="543960" cy="2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923000" y="1157400"/>
            <a:ext cx="707760" cy="625320"/>
            <a:chOff x="4923000" y="1157400"/>
            <a:chExt cx="707760" cy="625320"/>
          </a:xfrm>
        </p:grpSpPr>
        <p:sp>
          <p:nvSpPr>
            <p:cNvPr id="396" name=""/>
            <p:cNvSpPr/>
            <p:nvPr/>
          </p:nvSpPr>
          <p:spPr>
            <a:xfrm>
              <a:off x="4923000" y="1157400"/>
              <a:ext cx="707760" cy="62532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1520" y="1301760"/>
              <a:ext cx="12852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37440" y="1301760"/>
              <a:ext cx="12852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21214800">
              <a:off x="5103720" y="1446480"/>
              <a:ext cx="516600" cy="1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0040" y="1397880"/>
              <a:ext cx="25740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Cloud"/>
          <p:cNvSpPr/>
          <p:nvPr/>
        </p:nvSpPr>
        <p:spPr>
          <a:xfrm>
            <a:off x="233280" y="1209600"/>
            <a:ext cx="2570400" cy="19432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olume control: decide how loud or soft the spoken sentences will be for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loud"/>
          <p:cNvSpPr/>
          <p:nvPr/>
        </p:nvSpPr>
        <p:spPr>
          <a:xfrm>
            <a:off x="6121440" y="1181160"/>
            <a:ext cx="2636640" cy="19922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oice selector: Choose the gender and accent/language of the spoken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loud"/>
          <p:cNvSpPr/>
          <p:nvPr/>
        </p:nvSpPr>
        <p:spPr>
          <a:xfrm>
            <a:off x="2055960" y="5576760"/>
            <a:ext cx="5048280" cy="1128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ce control: determine if the speed of spoken sentences will be “turtle” slow, “rabbit” fast or something in-betw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03640" y="2901960"/>
            <a:ext cx="10490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389560" y="2693880"/>
            <a:ext cx="835200" cy="46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11800" y="5329080"/>
            <a:ext cx="0" cy="29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selectors – Initial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21222000">
            <a:off x="711360" y="4630320"/>
            <a:ext cx="15141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222000">
            <a:off x="412560" y="509724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1222000">
            <a:off x="1299960" y="577188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21222000">
            <a:off x="1242720" y="4328640"/>
            <a:ext cx="60480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21222000">
            <a:off x="659880" y="4586040"/>
            <a:ext cx="60660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1222000">
            <a:off x="676080" y="5648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21222000">
            <a:off x="1769760" y="543060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82800">
            <a:off x="4664160" y="4630680"/>
            <a:ext cx="15159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383400">
            <a:off x="5871960" y="5099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rot="383400">
            <a:off x="4982040" y="5772240"/>
            <a:ext cx="6080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rot="383400">
            <a:off x="5043240" y="432900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383400">
            <a:off x="5624280" y="458640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rot="383400">
            <a:off x="5608440" y="564840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rot="383400">
            <a:off x="4512960" y="54291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 rot="649200">
            <a:off x="604440" y="2445120"/>
            <a:ext cx="151596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 rot="649200">
            <a:off x="314280" y="2688120"/>
            <a:ext cx="60660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 rot="649200">
            <a:off x="1252440" y="2085840"/>
            <a:ext cx="6080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 rot="649200">
            <a:off x="1080720" y="3520800"/>
            <a:ext cx="606600" cy="57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 rot="649200">
            <a:off x="522000" y="3217680"/>
            <a:ext cx="606240" cy="577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 rot="649200">
            <a:off x="620280" y="2160360"/>
            <a:ext cx="606600" cy="577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 rot="649200">
            <a:off x="1695600" y="24627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20600400">
            <a:off x="4878360" y="2550240"/>
            <a:ext cx="15159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 rot="20599800">
            <a:off x="6059520" y="27183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 rot="20599800">
            <a:off x="5061960" y="2213640"/>
            <a:ext cx="6080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 rot="20599800">
            <a:off x="5380200" y="3623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 rot="20599800">
            <a:off x="5907240" y="326592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 rot="20599800">
            <a:off x="5699520" y="2223720"/>
            <a:ext cx="60660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flipV="1" rot="20599800">
            <a:off x="4661280" y="2635920"/>
            <a:ext cx="606600" cy="57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 rot="4197000">
            <a:off x="2658600" y="1396440"/>
            <a:ext cx="1440000" cy="141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 rot="4197000">
            <a:off x="2846880" y="112212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 rot="4197000">
            <a:off x="3869280" y="156636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 rot="4197000">
            <a:off x="2478600" y="217764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 rot="4197000">
            <a:off x="2469240" y="1567080"/>
            <a:ext cx="576360" cy="60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 rot="4197000">
            <a:off x="3481920" y="109512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 rot="4197000">
            <a:off x="3748680" y="212220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19080" y="5121360"/>
            <a:ext cx="11494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17560" y="2909880"/>
            <a:ext cx="11509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840040" y="1852560"/>
            <a:ext cx="11494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062680" y="3006720"/>
            <a:ext cx="11509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861080" y="5121360"/>
            <a:ext cx="11491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179760" y="3160800"/>
            <a:ext cx="2781720" cy="1797120"/>
            <a:chOff x="6179760" y="3160800"/>
            <a:chExt cx="2781720" cy="1797120"/>
          </a:xfrm>
        </p:grpSpPr>
        <p:sp>
          <p:nvSpPr>
            <p:cNvPr id="449" name=""/>
            <p:cNvSpPr/>
            <p:nvPr/>
          </p:nvSpPr>
          <p:spPr>
            <a:xfrm flipH="1">
              <a:off x="6179760" y="4567320"/>
              <a:ext cx="733320" cy="20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615000" y="3160800"/>
              <a:ext cx="46368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Cloud"/>
            <p:cNvSpPr/>
            <p:nvPr/>
          </p:nvSpPr>
          <p:spPr>
            <a:xfrm>
              <a:off x="6585120" y="3394080"/>
              <a:ext cx="2376360" cy="15638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he dark blue area contain icons representing individual words in a related word gro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98720" y="3038400"/>
            <a:ext cx="2814480" cy="2044800"/>
            <a:chOff x="1998720" y="3038400"/>
            <a:chExt cx="2814480" cy="2044800"/>
          </a:xfrm>
        </p:grpSpPr>
        <p:sp>
          <p:nvSpPr>
            <p:cNvPr id="453" name=""/>
            <p:cNvSpPr/>
            <p:nvPr/>
          </p:nvSpPr>
          <p:spPr>
            <a:xfrm flipH="1">
              <a:off x="1998720" y="4594320"/>
              <a:ext cx="642960" cy="45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Cloud"/>
            <p:cNvSpPr/>
            <p:nvPr/>
          </p:nvSpPr>
          <p:spPr>
            <a:xfrm>
              <a:off x="2108160" y="3038400"/>
              <a:ext cx="2705040" cy="204480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he light blue areas represent a group of words that are related by their context, part of speech, or some other intuitive common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selectors – 2nd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5520" y="1227240"/>
            <a:ext cx="1530360" cy="1648800"/>
            <a:chOff x="605520" y="1227240"/>
            <a:chExt cx="1530360" cy="1648800"/>
          </a:xfrm>
        </p:grpSpPr>
        <p:grpSp>
          <p:nvGrpSpPr>
            <p:cNvPr id="457" name=""/>
            <p:cNvGrpSpPr/>
            <p:nvPr/>
          </p:nvGrpSpPr>
          <p:grpSpPr>
            <a:xfrm>
              <a:off x="605520" y="1227240"/>
              <a:ext cx="1530360" cy="1648800"/>
              <a:chOff x="605520" y="1227240"/>
              <a:chExt cx="1530360" cy="1648800"/>
            </a:xfrm>
          </p:grpSpPr>
          <p:sp>
            <p:nvSpPr>
              <p:cNvPr id="458" name=""/>
              <p:cNvSpPr/>
              <p:nvPr/>
            </p:nvSpPr>
            <p:spPr>
              <a:xfrm rot="21222000">
                <a:off x="853920" y="148860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1222000">
                <a:off x="628920" y="1856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1222000">
                <a:off x="1301040" y="23950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1222000">
                <a:off x="1251720" y="12506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1222000">
                <a:off x="813960" y="14526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1222000">
                <a:off x="830160" y="22939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1222000">
                <a:off x="1654920" y="2126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 txBox="1"/>
            <p:nvPr/>
          </p:nvSpPr>
          <p:spPr>
            <a:xfrm>
              <a:off x="1010880" y="187776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60280" y="2046240"/>
            <a:ext cx="2037600" cy="2064240"/>
            <a:chOff x="2960280" y="2046240"/>
            <a:chExt cx="2037600" cy="2064240"/>
          </a:xfrm>
        </p:grpSpPr>
        <p:grpSp>
          <p:nvGrpSpPr>
            <p:cNvPr id="467" name=""/>
            <p:cNvGrpSpPr/>
            <p:nvPr/>
          </p:nvGrpSpPr>
          <p:grpSpPr>
            <a:xfrm>
              <a:off x="2960280" y="2046240"/>
              <a:ext cx="2037600" cy="2064240"/>
              <a:chOff x="2960280" y="2046240"/>
              <a:chExt cx="2037600" cy="2064240"/>
            </a:xfrm>
          </p:grpSpPr>
          <p:sp>
            <p:nvSpPr>
              <p:cNvPr id="468" name=""/>
              <p:cNvSpPr/>
              <p:nvPr/>
            </p:nvSpPr>
            <p:spPr>
              <a:xfrm rot="21222000">
                <a:off x="3290400" y="2376360"/>
                <a:ext cx="1527120" cy="1332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1222000">
                <a:off x="2989440" y="28407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1222000">
                <a:off x="3882240" y="350784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1222000">
                <a:off x="3826800" y="207792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1222000">
                <a:off x="3240720" y="233424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1222000">
                <a:off x="3254040" y="33861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1222000">
                <a:off x="4357080" y="31683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 txBox="1"/>
            <p:nvPr/>
          </p:nvSpPr>
          <p:spPr>
            <a:xfrm>
              <a:off x="3628440" y="2871720"/>
              <a:ext cx="1209240" cy="36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661000" y="2476080"/>
            <a:ext cx="3299400" cy="3070800"/>
            <a:chOff x="5661000" y="2476080"/>
            <a:chExt cx="3299400" cy="3070800"/>
          </a:xfrm>
        </p:grpSpPr>
        <p:grpSp>
          <p:nvGrpSpPr>
            <p:cNvPr id="477" name=""/>
            <p:cNvGrpSpPr/>
            <p:nvPr/>
          </p:nvGrpSpPr>
          <p:grpSpPr>
            <a:xfrm>
              <a:off x="5661000" y="2476080"/>
              <a:ext cx="3299400" cy="3070800"/>
              <a:chOff x="5661000" y="2476080"/>
              <a:chExt cx="3299400" cy="3070800"/>
            </a:xfrm>
          </p:grpSpPr>
          <p:sp>
            <p:nvSpPr>
              <p:cNvPr id="478" name=""/>
              <p:cNvSpPr/>
              <p:nvPr/>
            </p:nvSpPr>
            <p:spPr>
              <a:xfrm rot="21222000">
                <a:off x="6193800" y="2972160"/>
                <a:ext cx="2485440" cy="1974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1222000">
                <a:off x="5704200" y="36730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1222000">
                <a:off x="7145280" y="46486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1222000">
                <a:off x="7077960" y="252792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1222000">
                <a:off x="6120720" y="291780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1222000">
                <a:off x="6125760" y="44776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1222000">
                <a:off x="7922880" y="41374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 txBox="1"/>
            <p:nvPr/>
          </p:nvSpPr>
          <p:spPr>
            <a:xfrm>
              <a:off x="6743520" y="3708360"/>
              <a:ext cx="196812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6" name=""/>
          <p:cNvSpPr/>
          <p:nvPr/>
        </p:nvSpPr>
        <p:spPr>
          <a:xfrm rot="21222000">
            <a:off x="6109920" y="4420800"/>
            <a:ext cx="100656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11" dur="5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14" dur="500" fill="hold"/>
                                        <p:tgtEl>
                                          <p:spTgt spid="4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rols for talking, saving, recalling senten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41720" y="2216160"/>
            <a:ext cx="3057480" cy="297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38120" y="3641760"/>
            <a:ext cx="3467160" cy="1334880"/>
            <a:chOff x="438120" y="3641760"/>
            <a:chExt cx="3467160" cy="1334880"/>
          </a:xfrm>
        </p:grpSpPr>
        <p:sp>
          <p:nvSpPr>
            <p:cNvPr id="490" name=""/>
            <p:cNvSpPr/>
            <p:nvPr/>
          </p:nvSpPr>
          <p:spPr>
            <a:xfrm>
              <a:off x="2835360" y="370188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657520" y="3684600"/>
              <a:ext cx="999360" cy="986760"/>
              <a:chOff x="2657520" y="3684600"/>
              <a:chExt cx="999360" cy="98676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942640" y="3684600"/>
                <a:ext cx="714240" cy="986760"/>
                <a:chOff x="2942640" y="3684600"/>
                <a:chExt cx="714240" cy="986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087000" y="3701520"/>
                  <a:ext cx="6336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4080" y="3868200"/>
                  <a:ext cx="495000" cy="45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174120" y="3945960"/>
                  <a:ext cx="392760" cy="316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942640" y="4330440"/>
                  <a:ext cx="699480" cy="340920"/>
                </a:xfrm>
                <a:prstGeom prst="parallelogram">
                  <a:avLst>
                    <a:gd name="adj" fmla="val 512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78360" y="4381560"/>
                  <a:ext cx="462960" cy="147960"/>
                </a:xfrm>
                <a:prstGeom prst="parallelogram">
                  <a:avLst>
                    <a:gd name="adj" fmla="val 4994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33720" y="4530960"/>
                  <a:ext cx="438480" cy="87840"/>
                </a:xfrm>
                <a:prstGeom prst="parallelogram">
                  <a:avLst>
                    <a:gd name="adj" fmla="val 3711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593880" y="3684600"/>
                  <a:ext cx="63000" cy="3528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2657520" y="3895200"/>
                <a:ext cx="358200" cy="49212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411280" y="4429080"/>
              <a:ext cx="4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Cloud"/>
            <p:cNvSpPr/>
            <p:nvPr/>
          </p:nvSpPr>
          <p:spPr>
            <a:xfrm>
              <a:off x="438120" y="3641760"/>
              <a:ext cx="199080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tore the sentence for later retriev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351320" y="3002040"/>
            <a:ext cx="4444920" cy="1052280"/>
            <a:chOff x="4351320" y="3002040"/>
            <a:chExt cx="4444920" cy="1052280"/>
          </a:xfrm>
        </p:grpSpPr>
        <p:grpSp>
          <p:nvGrpSpPr>
            <p:cNvPr id="504" name=""/>
            <p:cNvGrpSpPr/>
            <p:nvPr/>
          </p:nvGrpSpPr>
          <p:grpSpPr>
            <a:xfrm>
              <a:off x="4351320" y="3200400"/>
              <a:ext cx="844560" cy="726840"/>
              <a:chOff x="4351320" y="3200400"/>
              <a:chExt cx="844560" cy="726840"/>
            </a:xfrm>
          </p:grpSpPr>
          <p:sp>
            <p:nvSpPr>
              <p:cNvPr id="505" name=""/>
              <p:cNvSpPr/>
              <p:nvPr/>
            </p:nvSpPr>
            <p:spPr>
              <a:xfrm rot="4661400">
                <a:off x="4654800" y="3346200"/>
                <a:ext cx="364680" cy="316440"/>
              </a:xfrm>
              <a:custGeom>
                <a:avLst/>
                <a:gdLst>
                  <a:gd name="textAreaLeft" fmla="*/ 106200 w 364680"/>
                  <a:gd name="textAreaRight" fmla="*/ 258480 w 364680"/>
                  <a:gd name="textAreaTop" fmla="*/ 92160 h 316440"/>
                  <a:gd name="textAreaBottom" fmla="*/ 224280 h 31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25" y="21600"/>
                    </a:lnTo>
                    <a:lnTo>
                      <a:pt x="8175" y="21600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41080" y="3261240"/>
                <a:ext cx="5544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31800" y="3200400"/>
                <a:ext cx="64080" cy="48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4351320" y="3329640"/>
                <a:ext cx="375120" cy="597600"/>
                <a:chOff x="4351320" y="3329640"/>
                <a:chExt cx="375120" cy="5976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351320" y="3382560"/>
                  <a:ext cx="374040" cy="4698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513320" y="3430080"/>
                  <a:ext cx="91080" cy="86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20440" y="3329640"/>
                  <a:ext cx="306000" cy="5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9" y="5625"/>
                      </a:moveTo>
                      <a:arcTo wR="10800" hR="10800" stAng="-1717935" swAng="1424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9" y="5625"/>
                      </a:moveTo>
                      <a:arcTo wR="10800" hR="10800" stAng="-1717935" swAng="1424434"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 flipH="1">
              <a:off x="5229360" y="3486240"/>
              <a:ext cx="1736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Cloud"/>
            <p:cNvSpPr/>
            <p:nvPr/>
          </p:nvSpPr>
          <p:spPr>
            <a:xfrm>
              <a:off x="6805440" y="3002040"/>
              <a:ext cx="1990800" cy="10522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peak the current sen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435640" y="3701880"/>
            <a:ext cx="2874960" cy="2063880"/>
            <a:chOff x="5435640" y="3701880"/>
            <a:chExt cx="2874960" cy="2063880"/>
          </a:xfrm>
        </p:grpSpPr>
        <p:sp>
          <p:nvSpPr>
            <p:cNvPr id="515" name=""/>
            <p:cNvSpPr/>
            <p:nvPr/>
          </p:nvSpPr>
          <p:spPr>
            <a:xfrm>
              <a:off x="5435640" y="370188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712480" y="3701880"/>
              <a:ext cx="914040" cy="1017000"/>
              <a:chOff x="5712480" y="3701880"/>
              <a:chExt cx="914040" cy="1017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5712480" y="3701880"/>
                <a:ext cx="653040" cy="1017000"/>
                <a:chOff x="5712480" y="3701880"/>
                <a:chExt cx="653040" cy="101700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75440" y="3719160"/>
                  <a:ext cx="57960" cy="363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5746680" y="3890880"/>
                  <a:ext cx="452520" cy="46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5794920" y="3971160"/>
                  <a:ext cx="359280" cy="32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5725440" y="4367520"/>
                  <a:ext cx="639720" cy="351360"/>
                </a:xfrm>
                <a:prstGeom prst="parallelogram">
                  <a:avLst>
                    <a:gd name="adj" fmla="val 4551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5817960" y="4420440"/>
                  <a:ext cx="423000" cy="152640"/>
                </a:xfrm>
                <a:prstGeom prst="parallelogram">
                  <a:avLst>
                    <a:gd name="adj" fmla="val 4423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5881320" y="4574160"/>
                  <a:ext cx="401040" cy="90720"/>
                </a:xfrm>
                <a:prstGeom prst="parallelogram">
                  <a:avLst>
                    <a:gd name="adj" fmla="val 3286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5712480" y="3701880"/>
                  <a:ext cx="57600" cy="3636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6299280" y="3918960"/>
                <a:ext cx="327240" cy="50760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flipH="1" flipV="1">
              <a:off x="6373440" y="4545000"/>
              <a:ext cx="3841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Cloud"/>
            <p:cNvSpPr/>
            <p:nvPr/>
          </p:nvSpPr>
          <p:spPr>
            <a:xfrm>
              <a:off x="6319800" y="4768920"/>
              <a:ext cx="1990800" cy="9968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call a stored (or pre-defined senten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187720" y="4527720"/>
            <a:ext cx="3093840" cy="2052360"/>
            <a:chOff x="2187720" y="4527720"/>
            <a:chExt cx="3093840" cy="2052360"/>
          </a:xfrm>
        </p:grpSpPr>
        <p:sp>
          <p:nvSpPr>
            <p:cNvPr id="529" name=""/>
            <p:cNvSpPr/>
            <p:nvPr/>
          </p:nvSpPr>
          <p:spPr>
            <a:xfrm>
              <a:off x="4211640" y="4527720"/>
              <a:ext cx="1069920" cy="99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370400" y="4554360"/>
              <a:ext cx="767880" cy="887400"/>
              <a:chOff x="4370400" y="4554360"/>
              <a:chExt cx="767880" cy="887400"/>
            </a:xfrm>
          </p:grpSpPr>
          <p:sp>
            <p:nvSpPr>
              <p:cNvPr id="531" name=""/>
              <p:cNvSpPr/>
              <p:nvPr/>
            </p:nvSpPr>
            <p:spPr>
              <a:xfrm>
                <a:off x="4370400" y="5050800"/>
                <a:ext cx="754200" cy="390960"/>
              </a:xfrm>
              <a:custGeom>
                <a:avLst/>
                <a:gdLst>
                  <a:gd name="textAreaLeft" fmla="*/ 165600 w 754200"/>
                  <a:gd name="textAreaRight" fmla="*/ 588600 w 754200"/>
                  <a:gd name="textAreaTop" fmla="*/ 86040 h 390960"/>
                  <a:gd name="textAreaBottom" fmla="*/ 304920 h 39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370400" y="4951080"/>
                <a:ext cx="767880" cy="21240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03960" y="4554360"/>
                <a:ext cx="466560" cy="3870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flipV="1">
              <a:off x="4132440" y="5508720"/>
              <a:ext cx="39528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Cloud"/>
            <p:cNvSpPr/>
            <p:nvPr/>
          </p:nvSpPr>
          <p:spPr>
            <a:xfrm>
              <a:off x="2187720" y="5245200"/>
              <a:ext cx="199044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lear the sentence without playing 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35640" y="866880"/>
            <a:ext cx="2473200" cy="2504880"/>
            <a:chOff x="5435640" y="866880"/>
            <a:chExt cx="2473200" cy="2504880"/>
          </a:xfrm>
        </p:grpSpPr>
        <p:sp>
          <p:nvSpPr>
            <p:cNvPr id="537" name=""/>
            <p:cNvSpPr/>
            <p:nvPr/>
          </p:nvSpPr>
          <p:spPr>
            <a:xfrm>
              <a:off x="5435640" y="2381400"/>
              <a:ext cx="1069920" cy="99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79920" y="2590920"/>
              <a:ext cx="11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284880" y="2160720"/>
              <a:ext cx="16848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Cloud"/>
            <p:cNvSpPr/>
            <p:nvPr/>
          </p:nvSpPr>
          <p:spPr>
            <a:xfrm>
              <a:off x="5580000" y="866880"/>
              <a:ext cx="232884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hoose from a list of conversation subjects, to focus the active vocabul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47600" y="1927080"/>
            <a:ext cx="4331520" cy="1447920"/>
            <a:chOff x="147600" y="1927080"/>
            <a:chExt cx="4331520" cy="1447920"/>
          </a:xfrm>
        </p:grpSpPr>
        <p:grpSp>
          <p:nvGrpSpPr>
            <p:cNvPr id="542" name=""/>
            <p:cNvGrpSpPr/>
            <p:nvPr/>
          </p:nvGrpSpPr>
          <p:grpSpPr>
            <a:xfrm>
              <a:off x="2835360" y="2381400"/>
              <a:ext cx="1643760" cy="989640"/>
              <a:chOff x="2835360" y="2381400"/>
              <a:chExt cx="1643760" cy="989640"/>
            </a:xfrm>
          </p:grpSpPr>
          <p:sp>
            <p:nvSpPr>
              <p:cNvPr id="543" name=""/>
              <p:cNvSpPr/>
              <p:nvPr/>
            </p:nvSpPr>
            <p:spPr>
              <a:xfrm>
                <a:off x="2835360" y="2381400"/>
                <a:ext cx="1070280" cy="9896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51200" y="2528640"/>
                <a:ext cx="162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Fu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Cloud"/>
            <p:cNvSpPr/>
            <p:nvPr/>
          </p:nvSpPr>
          <p:spPr>
            <a:xfrm>
              <a:off x="147600" y="1927080"/>
              <a:ext cx="2384640" cy="14479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lay some speech-related games, like a icon-based Madlibs-type g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82840" y="269568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82840" y="269568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128680" y="669960"/>
            <a:ext cx="3092400" cy="2070000"/>
            <a:chOff x="2128680" y="669960"/>
            <a:chExt cx="3092400" cy="2070000"/>
          </a:xfrm>
        </p:grpSpPr>
        <p:sp>
          <p:nvSpPr>
            <p:cNvPr id="549" name=""/>
            <p:cNvSpPr/>
            <p:nvPr/>
          </p:nvSpPr>
          <p:spPr>
            <a:xfrm>
              <a:off x="4151160" y="174924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128680" y="669960"/>
              <a:ext cx="2913120" cy="1980360"/>
              <a:chOff x="2128680" y="669960"/>
              <a:chExt cx="2913120" cy="1980360"/>
            </a:xfrm>
          </p:grpSpPr>
          <p:sp>
            <p:nvSpPr>
              <p:cNvPr id="551" name=""/>
              <p:cNvSpPr/>
              <p:nvPr/>
            </p:nvSpPr>
            <p:spPr>
              <a:xfrm>
                <a:off x="4298760" y="1825200"/>
                <a:ext cx="743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786120" y="1827000"/>
                <a:ext cx="417600" cy="22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Cloud"/>
              <p:cNvSpPr/>
              <p:nvPr/>
            </p:nvSpPr>
            <p:spPr>
              <a:xfrm>
                <a:off x="2128680" y="669960"/>
                <a:ext cx="2284560" cy="133488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Get help on program functions and ideas for using OLPCiconSpea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tatus Display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Cloud"/>
          <p:cNvSpPr/>
          <p:nvPr/>
        </p:nvSpPr>
        <p:spPr>
          <a:xfrm>
            <a:off x="3503520" y="1557360"/>
            <a:ext cx="5059440" cy="16794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rent subject of conver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loud"/>
          <p:cNvSpPr/>
          <p:nvPr/>
        </p:nvSpPr>
        <p:spPr>
          <a:xfrm>
            <a:off x="861840" y="3749760"/>
            <a:ext cx="1990800" cy="1334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rent mouse position on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loud"/>
          <p:cNvSpPr/>
          <p:nvPr/>
        </p:nvSpPr>
        <p:spPr>
          <a:xfrm>
            <a:off x="4416480" y="3836880"/>
            <a:ext cx="4122720" cy="15703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entence to be spoken (as its bui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Rest of What’s o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566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567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569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8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H="1" flipV="1">
            <a:off x="4167360" y="4812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loud"/>
          <p:cNvSpPr/>
          <p:nvPr/>
        </p:nvSpPr>
        <p:spPr>
          <a:xfrm>
            <a:off x="4995720" y="1538280"/>
            <a:ext cx="2478240" cy="1379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way to quit, saving al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loud"/>
          <p:cNvSpPr/>
          <p:nvPr/>
        </p:nvSpPr>
        <p:spPr>
          <a:xfrm>
            <a:off x="4471920" y="3786120"/>
            <a:ext cx="4222800" cy="23288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loud"/>
          <p:cNvSpPr/>
          <p:nvPr/>
        </p:nvSpPr>
        <p:spPr>
          <a:xfrm>
            <a:off x="630360" y="1521000"/>
            <a:ext cx="3093840" cy="14382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creen background is just a 19% gray The (191,191,191) RGB triplet specifies this neutral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2:53:32Z</dcterms:created>
  <dc:creator>lbeal</dc:creator>
  <dc:description/>
  <dc:language>en-US</dc:language>
  <cp:lastModifiedBy>lbeal</cp:lastModifiedBy>
  <dcterms:modified xsi:type="dcterms:W3CDTF">2008-04-19T03:04:35Z</dcterms:modified>
  <cp:revision>18</cp:revision>
  <dc:subject/>
  <dc:title>OLPCiconSpeak Alternative User Interface</dc:title>
</cp:coreProperties>
</file>